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6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r of Thought: Hitting Unseen Target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reflect on quote and story - impact and connections to plen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cus of this story is intended to be for the teacher, planning without a goal in mind is like trying to hit a target blindfol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n planning for students teachers must have the goal clearly in mind - the learning tasks provide students the opportunity to hit the targ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pen conversation regarding placement of a learning goal in the math lesson.  Process vs content learning goals and their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reen shot of article will disappear on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ist of sections to read will then appear with sam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article provides background information, including specifics regarding multiplicative and additive think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following sections of Recognising the Difference Between Additive and Multiplicative Thinking in Young Child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Results (Sections of inter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clusion &amp; 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ppendix:  Description of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 +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view evidence of Proportional Reasoning and connections to Proportional Reasoning in curriculum expectations for their grad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esent PR expectation in Grade 4 expectations (on slide sh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igsaw – grade groups will find PR expectations and connections – record on chart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share in order to se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la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dscape of learning</a:t>
            </a:r>
            <a:r>
              <a:rPr b="0" lang="en-CA" sz="12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for 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utterfly House (K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entipede’s 100 Shoes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ow grade groups access to picture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swer question (in more than on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student work samples to grad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analyze sample student responses and make connections to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 to lesson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goal to consolida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as learning - co-constructing “what a great answer looks lik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tribute appropriate lesson goal to grade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was the lesson goal – does this problem provide students opportunities demonstrate their learning of this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oth groups will share their observations with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dentify connection between responses and possible learning goal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vide participants an opportunity to review and revise concept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Journal Reflection: Reflect on a lesson that has really hit the target.  Describe the elements that were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E9B5-E749-43E7-AB9C-2EFBC34FE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F733-8D56-4E65-A727-6D73B0D75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CFD6-8AEC-4E2B-B9BF-9DCB69E72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C4DC-E551-4634-93D5-4BDA5DE2DD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FD0A-2FF3-4FF5-B032-574FC14D7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7DAD-216F-4072-896D-39C7AC33E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4599-C5A6-43CF-A643-7AAC83DC8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4CE4-32C3-49FE-891D-E55D68D95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052E-99CE-4499-AEFC-0E0EEFE20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814C-E444-4ACD-96B0-5282FC168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EA68-69A3-49E7-9E38-0924D060D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7BDF-E586-48B6-9457-30ADBFBD8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00F-4248-4DF8-B047-C40F04A735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646-C0F5-4AE9-A0B6-A5605D607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42478"/>
                </a:solidFill>
                <a:latin typeface="Tahoma"/>
                <a:ea typeface="Tahoma"/>
              </a:rPr>
              <a:t>Learning Goals &amp; Consolidating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280" y="1947960"/>
            <a:ext cx="329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dds of hitting your target go up dramatically when you aim at it.</a:t>
            </a: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al Pan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4791240" y="685800"/>
            <a:ext cx="3751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38829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136240" y="2209680"/>
            <a:ext cx="479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(Sections of inte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&amp; I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: Description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ing The Curriculu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ll Min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7404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ade groups, find curriculum connections to Grade 4 Proportional Reasoning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xpectations on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itting The Targe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133800" cy="4191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4343400" cy="433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24640" y="13431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6480" y="5229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provide students the opportunity to demonstrate the lesson go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d this ques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Hi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 the target</a:t>
            </a:r>
            <a:r>
              <a:rPr b="0" lang="en-CA" sz="2800" spc="-1" strike="noStrike">
                <a:solidFill>
                  <a:srgbClr val="000000"/>
                </a:solidFill>
                <a:latin typeface="Lucida Grande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2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773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57400" cy="146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4T05:26:43Z</dcterms:modified>
  <cp:revision>80</cp:revision>
  <dc:subject/>
  <dc:title>&lt;Title&gt;</dc:title>
</cp:coreProperties>
</file>